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3.png" ContentType="image/png"/>
  <Override PartName="/ppt/media/5th%20Grader%20Shor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DC38-A949-4B3E-B65B-801BA722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C9EF-7752-425A-9DDB-1B79284A0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3041-0058-414A-ACDE-09CC70A835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8057-6046-4107-95C6-1F7C878166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F955-2718-4D1F-911C-F84B803BA0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E638-25FC-4732-B1F2-B173A4FC0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4F3-06E1-4260-9D1A-6E2F3CD4DB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3E26-7EEF-4942-B0B1-99C968B4F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0649-B891-4628-A3CD-B64C9E29DC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B58E-FDAF-4D49-BC62-0B257DFA6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CB31-C254-4403-B31C-8EF25FB1EC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40FA-5206-4B9C-AFC2-1CFD0F878B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2D7D-AF35-4B3E-9E85-7B9F7AF8D2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FB61-B833-41F5-B7EE-B54791DF01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B6A9-75F7-4173-8F22-D63797410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58F8-3D6E-4573-BF8C-2475B6FD3E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D011-093B-4293-B38C-4143C24B17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A8C8-7825-4AA7-A999-2C151585A6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8388-A5C8-41DE-85F8-3E53A42A93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C928-EBD7-444F-947D-4121342EB6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28DC-9261-4A05-AC15-841C98B75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6C93-35B5-44FE-832D-AA77A9B2EE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5630-48BC-4D8C-A10E-3B5019E9F3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4C3E-0551-4626-A042-46263E3D17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3052-9D62-4F86-873A-6F6E8D10DC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B322-FC36-4F0E-BF71-6BBF573057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96AE-B937-469A-B063-56CC75700E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C7E5-64B9-469F-9876-1597302C2D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EA7B-BF1C-49DB-A301-2722C2F369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8F65-77DB-403D-B01A-CE0A651D79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F900-0B84-490F-A7D4-998AF754F3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3001-90C8-4FD5-9A02-4090C591EC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BD14-2B78-480D-8F60-B5821DD9DF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D54F-68AD-452A-9D36-50FB202F4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1285-4E9E-4541-9340-1C5799D271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B2F7-2CB1-4473-AA12-4E4AAF5494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F9A8-3FDF-4EDC-A07B-682D4B9103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7AA1-AE25-4AA9-81A2-2BA0EDFB93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31F-AAD9-485B-89F1-150E1580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14D-2F06-4738-9DAA-831DE8CA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83D-E13C-4FC7-B783-62F3D69E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DDE-B25E-416F-ACE6-16E475D4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009-9D6B-4120-9129-10C8A65B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E21-8329-49BE-A568-E52033CD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06A-DD27-4587-82ED-72D39D70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2A6-0B43-4958-9D30-929DC2EA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B9E-1608-4BAF-B441-2ECB4206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46A-91D1-4439-BFAD-26B9AB1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CCE-ACA4-44F9-A5AF-6D13A0BC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B45-655F-4000-98BB-5FC51596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F11E-AAE0-479F-B5DC-1CBE15FEBF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9.xml"/><Relationship Id="rId8" Type="http://schemas.openxmlformats.org/officeDocument/2006/relationships/slide" Target="slide22.xml"/><Relationship Id="rId9" Type="http://schemas.openxmlformats.org/officeDocument/2006/relationships/slide" Target="slide25.xml"/><Relationship Id="rId10" Type="http://schemas.openxmlformats.org/officeDocument/2006/relationships/slide" Target="slide28.xml"/><Relationship Id="rId11" Type="http://schemas.openxmlformats.org/officeDocument/2006/relationships/slide" Target="slide31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3.xml"/><Relationship Id="rId19" Type="http://schemas.openxmlformats.org/officeDocument/2006/relationships/slide" Target="slide3.xml"/><Relationship Id="rId20" Type="http://schemas.openxmlformats.org/officeDocument/2006/relationships/slide" Target="slide3.xml"/><Relationship Id="rId21" Type="http://schemas.openxmlformats.org/officeDocument/2006/relationships/slide" Target="slide3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thGrader"/>
          <p:cNvPicPr/>
          <p:nvPr/>
        </p:nvPicPr>
        <p:blipFill>
          <a:blip r:embed="rId1"/>
          <a:stretch/>
        </p:blipFill>
        <p:spPr>
          <a:xfrm>
            <a:off x="2209680" y="0"/>
            <a:ext cx="4648320" cy="36036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6" descr=""/>
          <p:cNvPicPr/>
          <p:nvPr/>
        </p:nvPicPr>
        <p:blipFill>
          <a:blip r:embed="rId2"/>
          <a:stretch/>
        </p:blipFill>
        <p:spPr>
          <a:xfrm>
            <a:off x="438120" y="2987640"/>
            <a:ext cx="796284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Social Studies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ue or False: Is a forest a natural resourc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Social Studies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True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MIS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not a primary colo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MIS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Science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usually has more babi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pha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a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Science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Pigs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Grammar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is a proper Nou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l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e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re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2nd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" name="Picture 4" descr="5thGrader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5228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rade e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Grammar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Sally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indergarten Math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number comes after 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,2,3,4,5,6,7,8,_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indergarten MIS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starts the beginning of the yea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indergarten MIS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January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e-K Mus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nimal did Mary hav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y had little _____, little _____,little_____, Mary had a little _____, its fleece was white as snow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4" name="Picture 5" descr="C:\Users\sama614\AppData\Local\Microsoft\Windows\Temporary Internet Files\Content.IE5\3VGWG10Z\MCj03970380000[1].wmf"/>
          <p:cNvPicPr/>
          <p:nvPr/>
        </p:nvPicPr>
        <p:blipFill>
          <a:blip r:embed="rId1"/>
          <a:stretch/>
        </p:blipFill>
        <p:spPr>
          <a:xfrm>
            <a:off x="762120" y="3276720"/>
            <a:ext cx="8935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e- K Mus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LAMB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500"/>
            </a:gs>
            <a:gs pos="50000">
              <a:srgbClr val="408000"/>
            </a:gs>
            <a:gs pos="100000">
              <a:srgbClr val="03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nd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2nd Grade Geography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Math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2nd Grade Social Studies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2nd Grade MISC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1st Grade Science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st Grade Gramma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Kindergarten Math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Kindergarten MIS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Pre-K Mus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Pre-K English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9">
            <a:hlinkClick r:id="rId21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e K English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, B, C, D, E, F, G are all apart of wha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e K English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he Alphabet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Health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cer is a disease that makes cells grow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bnormal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nig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o tissu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Abnormally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Geography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is not apart of the 7 contin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ur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nd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th Ame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Geography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London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Math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 meters= ____c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Grade Math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700 cm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sama614</cp:lastModifiedBy>
  <dcterms:modified xsi:type="dcterms:W3CDTF">2009-12-11T05:51:43Z</dcterms:modified>
  <cp:revision>59</cp:revision>
  <dc:subject/>
  <dc:title>Are You Smarter  Than a 5th Grader?</dc:title>
</cp:coreProperties>
</file>